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D87-895E-4148-A57C-2FAC82E4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0CC-2C40-4580-AA36-E5D4DA5C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590-F053-4C25-9252-9446A2B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D5B-3B90-452B-B3FB-85E46926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6D2-05DB-404C-9C90-4D9883AE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E15-2148-4EB6-B6DE-9FE4A5A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86E4-C205-4D2C-84BC-3523425F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CCF0-51D8-4128-B2F0-B34D43F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EFD-E661-4705-966A-1B62317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F74C-D123-493D-BA17-15D2F0B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CCCA-7BCA-4368-9CCD-7731F29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207-121A-4005-8D6B-AEA95BE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FE05-8351-4922-ADDC-5366D35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EBE7-9CEE-4122-AF6E-E490009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F23-6E6C-4DF4-8CAE-AD70FCA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6002-E31C-4599-8981-35CA7133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EAB-9AC3-422E-95C4-B4104024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8FD-A47F-4BB5-B69A-1AD6700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A15-0F8C-4F50-A4C4-9DD8624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F0F-7EF3-4751-9D04-0ADFB08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AE7-E4B2-43A8-A813-86560B7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E9B-8A6B-4D6F-A9D1-E641635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039-FF79-425A-877B-721137C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3F0-E208-4204-A90C-72C9663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5F2-89DA-4394-99CF-10D72BAAE0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789-2468-4B2F-9E17-E2A982CF68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856800"/>
            <a:ext cx="8205480" cy="18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717"/>
                </a:solidFill>
                <a:latin typeface="Wide Latin"/>
              </a:rPr>
              <a:t>    </a:t>
            </a:r>
            <a:r>
              <a:rPr b="1" lang="ru-RU" sz="6000" spc="-1" strike="noStrike" u="sng">
                <a:solidFill>
                  <a:srgbClr val="e70717"/>
                </a:solidFill>
                <a:uFillTx/>
                <a:latin typeface="Times New Roman"/>
                <a:ea typeface="Times New Roman"/>
              </a:rPr>
              <a:t>РАЗРЯДЫ  ИМЕН</a:t>
            </a:r>
            <a:br>
              <a:rPr sz="6000"/>
            </a:br>
            <a:r>
              <a:rPr b="1" lang="ru-RU" sz="6000" spc="-1" strike="noStrike">
                <a:solidFill>
                  <a:srgbClr val="e70717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e70717"/>
                </a:solidFill>
                <a:uFillTx/>
                <a:latin typeface="Times New Roman"/>
                <a:ea typeface="Times New Roman"/>
              </a:rPr>
              <a:t>ПРИЛАГАТЕЛЬНЫХ</a:t>
            </a:r>
            <a:endParaRPr b="1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43cf"/>
                </a:solidFill>
                <a:latin typeface="Times New Roman"/>
              </a:rPr>
              <a:t>Автор: Колыбина Ю.А., студентка 4 курса филологического факультета КГП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43cf"/>
                </a:solidFill>
                <a:latin typeface="Times New Roman"/>
              </a:rPr>
              <a:t>2011 го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ДИДАКТИЧЕСКИЕ ЦЕЛИ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формировать знания о делении имен прилагательных по значен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ь интерес к предме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ть умения выдвигать предположения, проводить наблюдение, сравнивать, обобщать, извлекать информацию из сообщения уч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СНОВОПОЛАГАЮЩИЙ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   ВОПРОС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8000" y="2421000"/>
            <a:ext cx="49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Зачем изучается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морфология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QUE_COP"/>
          <p:cNvPicPr/>
          <p:nvPr/>
        </p:nvPicPr>
        <p:blipFill>
          <a:blip r:embed="rId1"/>
          <a:stretch/>
        </p:blipFill>
        <p:spPr>
          <a:xfrm>
            <a:off x="971640" y="2349360"/>
            <a:ext cx="2504880" cy="32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8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         </a:t>
            </a: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ПРОБЛЕМНЫЕ         </a:t>
            </a:r>
            <a:br>
              <a:rPr sz="4800"/>
            </a:b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             ВОПРОСЫ</a:t>
            </a:r>
            <a:r>
              <a:rPr b="1" lang="ru-RU" sz="48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1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чему прилагательные делятся на разряды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жет ли одно прилагательное выступать в разных разрядах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7854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717"/>
                </a:solidFill>
                <a:latin typeface="Rockwell"/>
              </a:rPr>
              <a:t>УЧЕБНЫЕ ВОПРОСЫ:</a:t>
            </a:r>
            <a:endParaRPr b="1" lang="en-US" sz="5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Сколько разрядов прилагательных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Какие это разряды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Как определить разряды прилагательных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редставление результатов исследования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Веб – с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Формулировка правила (в таблице, схем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Букле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Презентация докла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Этапы проведения   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             проекта: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1. Выбор тем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2. Поиск информац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3. Консультация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преподавател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4. Самостоятельная работ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чащих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5. Защита проект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Kozuka Gothic Pro B"/>
              </a:rPr>
              <a:t>РЕСУРС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Русский язык: Учебник для 6 класса общеобразовательных учреждений / Т.А. Ладыженская, М.Т. Баранов и др. 33-е изд. - М., 2005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Русский язык: Полный справочник школьника и абитуриента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 Сост. М.Е. Булаева – 2-е изд., доп. – М, 200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07:01Z</dcterms:created>
  <dc:creator>Admin</dc:creator>
  <dc:description/>
  <dc:language>en-US</dc:language>
  <cp:lastModifiedBy>студент</cp:lastModifiedBy>
  <dcterms:modified xsi:type="dcterms:W3CDTF">2011-04-05T10:31:31Z</dcterms:modified>
  <cp:revision>9</cp:revision>
  <dc:subject/>
  <dc:title>    РАЗРЯДЫ  ИМЕН  ПРИЛАГАТЕЛЬНЫХ</dc:title>
</cp:coreProperties>
</file>